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8EC50-FF4C-4AA5-990B-72E8001695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1E46-EEC7-4CAB-8543-D4D4E7379A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EBC72-0280-4686-9758-721B139BFA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FBC87-B702-431A-9B21-A512613E7D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A5B20-1A22-4662-B3E4-1FC3222075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3FD30-FF2B-4127-86E8-69BF250EFB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BE472-AC86-471A-B51D-7253371B237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22525-6ADC-430F-8296-52E486B812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55387-8F10-4658-88C8-0E4D20D13E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CC598-0576-4EBA-80A1-024F00E3E1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F6F08-1476-41C9-8A13-4D5E404FE6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54269-B763-47C2-AD2B-5D031E416D7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7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3"/>
          <p:cNvSpPr>
            <a:spLocks noGrp="1"/>
          </p:cNvSpPr>
          <p:nvPr>
            <p:ph type="sldNum" idx="1"/>
          </p:nvPr>
        </p:nvSpPr>
        <p:spPr>
          <a:xfrm>
            <a:off x="1266192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523F-135D-4E96-B487-6721B002805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5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" descr=""/>
          <p:cNvPicPr/>
          <p:nvPr/>
        </p:nvPicPr>
        <p:blipFill>
          <a:blip r:embed="rId2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n.org/%23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w3.org/2000/01/rdf-schema%23" TargetMode="External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3.org/2000/01/rdf-schema%23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39C5-B9F5-4460-A0A5-DF8F665A4D3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und Instanz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70080" y="1981080"/>
            <a:ext cx="11531520" cy="901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ypisierung von Ressourcen bereits in RDF zur Kennzeichnung von Listen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ädikat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weist dem Subjekt das Objekt als Typ zu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bjekt aufgefasst als Bezeichner für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der die durch das Subjekt bezeichnete Ressource (als sog.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Instanz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angehört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36" name="Picture 3" descr=""/>
          <p:cNvPicPr/>
          <p:nvPr/>
        </p:nvPicPr>
        <p:blipFill>
          <a:blip r:embed="rId1"/>
          <a:stretch/>
        </p:blipFill>
        <p:spPr>
          <a:xfrm>
            <a:off x="3808440" y="3213000"/>
            <a:ext cx="8066160" cy="2616480"/>
          </a:xfrm>
          <a:prstGeom prst="rect">
            <a:avLst/>
          </a:prstGeom>
          <a:ln w="0">
            <a:noFill/>
          </a:ln>
        </p:spPr>
      </p:pic>
      <p:sp>
        <p:nvSpPr>
          <p:cNvPr id="437" name="Oval 4"/>
          <p:cNvSpPr/>
          <p:nvPr/>
        </p:nvSpPr>
        <p:spPr>
          <a:xfrm>
            <a:off x="3835440" y="4559400"/>
            <a:ext cx="2921040" cy="1409760"/>
          </a:xfrm>
          <a:prstGeom prst="ellipse">
            <a:avLst/>
          </a:prstGeom>
          <a:noFill/>
          <a:ln w="6336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F1CC-3CAD-4687-826C-5581D568C42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und Instanz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Lehrbuch 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arakterisiert „Semantic Web - Grundlagen“ als Instanz der (neu definierten) Klasse „Lehrbuch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nzugehörigkeit ist nicht exklusiv, z.B. mit o.g. Tripel gleichzeitig möglich: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Unterhaltsam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llgemein: a priori syntaktisch keine eindeutige Unterscheidung zwischen Individuen- und Klassenbezeichnern möglich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uch in der Realität Charakterisierung manchmal schwierig, beispielsweise für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merican Typewriter"/>
                <a:ea typeface="American Typewriter"/>
                <a:hlinkClick r:id="rId1"/>
              </a:rPr>
              <a:t>http://www.un.org/#UR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A01C-2BDA-4711-B19F-723D77F727D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ie Klasse aller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jedoch manchmal eindeutige Kennzeichnung einer URI als Klassenbezeichner wünschensw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öglich durch Typung der betreffenden URI als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s:Lehrbuch   rdf:type   rdfs:Class  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 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st also die „Klasse aller Klassen“ und enthält sich damit auch selbst, d.h. das folgende Tripel ist immer wahr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   rdf:type   rdfs:Class  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BF93-09FA-4441-8A6D-E554464773A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 - Motiv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geben Trip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Lehrbuch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oblem: Suche nach Instanzen der Klasse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ex:Buch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liefert kein Result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öglichkeit: Hinzufügen von Trip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Buch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öst das Problem aber nur für die eine Ressourc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tomatisches Hinzufügen für alle Instanzen führt zu unnötig großen RDF-Dokument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F51D-DB4F-4ECF-8BD6-5E449BC169C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innvoller: einmalige Aussage, dass jedes Lehrbuch auch ein Buch ist, d.h. jede Instanz der Klass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ist automatisch auch eine Instanz der Klass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alisiert durch di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Buch  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„Die Klasse der Lehrbücher ist eine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nter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der Klasse der Bücher.“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88C4-F344-4D6C-A2DA-374822C53DB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630720" indent="-405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 ist reflextiv, d.h. jede Klasse ist Unterklasse von sich selbst, so dass z.B. gilt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Lehrbuch 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-4053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mgekehrt: Festlegung der Gleichheit zweier Klassen durch gegenseitige Unterklassenbeziehung, etwa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ospital   rdfs:subClassOf   ex:Krankenhaus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Krankenhaus   rdfs:subClassOf   ex:Hospital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-4053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alisiert durch di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Buch  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„Die Klasse der Lehrbücher ist eine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nter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der Klasse der Bücher.“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25FE-FB65-4E16-8224-A930C790ECD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hierarch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Üblich: nicht nur einzelne Unterklassenbeziehungen sondern ganze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"/>
              </a:rPr>
              <a:t>Klassenhierarchien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(auch: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"/>
              </a:rPr>
              <a:t>Taxonomien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z.B.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 rdfs:subClassOf   ex:Buch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ch             rdfs:subClassOf   ex:Printmedium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Zeitschrift   rdfs:subClassOf   ex:Printmedium 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in RDFS-Semantik verankert: Transitivität der </a:t>
            </a: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-Property, d.h. es folgt automatisch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  rdfs:subClassOf   ex:Printmedium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CB0F-8A9F-44DA-9DD8-4F9B38C0A74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hierarch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nhierarchie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sonders ausgepräg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twa in Biologie (z.B.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Klass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fikation von Lebe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e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.B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oologische Einord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ung des modern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nsch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7429680" y="1847880"/>
            <a:ext cx="5562360" cy="78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:RDF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rdf="http://www.w3.org/1999/02/22-rdf-syntax-ns#"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rdfs="http://www.w3.org/2000/01/rdf-schema#"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ex="http://www.semantic-web-grundlagen.de/Beispiele#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Animali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Chordat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Chorda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Animali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Mammali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S¨auge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Chordat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Primates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Primaten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Mammali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inidae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enaffen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Primates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Hominidae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Sapiens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oderner Mensch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Homo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ex:HomoSapiens rdf:about="&amp;ex;SebastianRudolph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:RDF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5024-863A-4BBF-B20A-5D599C8A16E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tuitive Parallele zur Mengenlehre: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           entspricht            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∈</a:t>
            </a:r>
            <a:br>
              <a:rPr sz="5400"/>
            </a:b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entspricht     </a:t>
            </a:r>
            <a:r>
              <a:rPr b="0" lang="en-US" sz="13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</a:t>
            </a:r>
            <a:endParaRPr b="0" lang="en-US" sz="5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chtfertigt beispielsweise auch die Reflexivität und Transitivität von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93A1-E303-41C2-A189-3BF6E4282A4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in RDF/XML-Syntax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e Darstellungen bei Angabe von Klasseninstanzen möglich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ex:HomoSapiens rdf:about="&amp;ex;SebastianRudolph"/&gt;</a:t>
            </a:r>
            <a:br>
              <a:rPr sz="2600"/>
            </a:br>
            <a:br>
              <a:rPr sz="26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 Stelle vo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:Description rdf:about= "&amp;ex;SebastianRudolph"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&lt;rdf:type rdf:resource= "&amp;ex;HomoSapiens"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&lt;/rdf:Description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mentsprechend auch</a:t>
            </a:r>
            <a:br>
              <a:rPr sz="42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Sapiens"/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RDF Schema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1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7" name="Picture 12" descr=""/>
          <p:cNvPicPr/>
          <p:nvPr/>
        </p:nvPicPr>
        <p:blipFill>
          <a:blip r:embed="rId2"/>
          <a:srcRect l="33175" t="59995" r="21726" b="32560"/>
          <a:stretch/>
        </p:blipFill>
        <p:spPr>
          <a:xfrm>
            <a:off x="8940960" y="6591240"/>
            <a:ext cx="1930320" cy="33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8" name=""/>
          <p:cNvGraphicFramePr/>
          <p:nvPr/>
        </p:nvGraphicFramePr>
        <p:xfrm>
          <a:off x="687240" y="3683160"/>
          <a:ext cx="6070680" cy="505908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 und konjunktive Anfr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1.1 -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und Regel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9" name="Rectangle 63"/>
          <p:cNvSpPr/>
          <p:nvPr/>
        </p:nvSpPr>
        <p:spPr>
          <a:xfrm>
            <a:off x="660240" y="4952880"/>
            <a:ext cx="6108840" cy="43200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Rectangle 64"/>
          <p:cNvSpPr/>
          <p:nvPr/>
        </p:nvSpPr>
        <p:spPr>
          <a:xfrm>
            <a:off x="-12600" y="9455040"/>
            <a:ext cx="1501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dem zweiten Teil von Kapitel 3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semantic-web-grundlagen.de/index.php/Kapitel_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816A-E14D-45A2-AA22-3AA5073AFE6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definierte Klassenbezeichn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esour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Ressourcen (also sämtliche Elemente des Gegenstandsbereiches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oper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Beziehung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= die Ressourcen, die durch Prädikats-URIs referenziert werden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List, rdf:Seq, rdf:Bag, rdf:Alt, rdfs:Contain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n verschiedener Arten von List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Beziehungen, die eine Enthaltenseinsbeziehung darstell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F86B-1E7F-48B7-A7E0-C16F2BC7DFF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definierte Klassenbezeichn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24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XMLLit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Werte des vordefinierten Datentyps XMLLitera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it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Literalwerte (enthält also alle Datentypen als Unterklas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atatyp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Datentypen (ist also wie rdfs:Class eine Klasse von Klas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tate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reifizierten Aussagen (s. dort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55D4-6F95-4E62-987B-C0DAE2BCC3B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0815-81E7-4DF3-B0C4-F76A6973EB3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ndere Bezeichnungen: Relationen, Bezieh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htung: Propertys sind in RDF(S) nicht (wie in OOP) speziellen Klassen zugeodne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-Bezeichner in Tripeln üblicherweise an Prädikatsstell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arakterisieren, auf welche Art zwei Ressourcen zueinander in Beziehung ste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athematisch oft dargestellt als Menge von Paar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verheiratet_mit = {(Adam,Eva),(Brad,Angelina),...}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RI wird als Property-Bezeichner gekennzeichnet durch entsprechende Typu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legtBei   rdf:type   rdf:Property  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511D-95EF-479D-ACEF-2347E5FAADF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9800" y="2425680"/>
            <a:ext cx="12420720" cy="675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ähnlich zu Unter-/Oberklassen auch Unter-/Oberpropertys denkbar und sinnvol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rstellung in RDFS mittels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PropertyOf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z.B.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glücklichVerheiratetMit   rdf:subPropertyOf   rdf:verheiratetMit   .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rlaubt, aus dem Tripel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Markus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ex:glücklichVerheiratetMit    ex:Anja   .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zu schlussfolgern,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ss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Markus 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heiratetMit    ex:Anja   .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A69C-63A4-435E-8702-FF8287BDEE8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1CE8-798C-42C1-A1F3-38D82510023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schränkung von 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häufig: Property kann sinnvoll nur ganz bestimmte Ressourcen verbinden, z.B. verbindet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legtBei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nur Publikationen mit Verlagen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.h. für alle URIs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, b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folgt aus dem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  ex:verlegtBei   b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ss auch gilt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  rdf:type   ex:Publikation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b   rdf:type   ex:Verlag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kann in RDFS direkt kodiert werden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verlegtBei   rdfs:domain   ex:Publikation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verlegtBei   rdfs:range      ex:Verlag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auch zur Angabe von Datentypen für Literale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hatAlter   rdfs:range   xsd:nonNegativeInteger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7851-C1F3-41B7-A226-CC3AAEB4241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schränkung von 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ropertyeinschränkungen bieten die einzige Möglichkeit, semantische Zusammenhänge zwischen Propertys und Klassen zu spezifizier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chtung: Propertyeinschränkungen wirken global und konjunktiv, z.B.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autorVon   rdfs:range   ex:Kochbuch   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autorVon   rdfs:range   ex:Märchenbuch   . 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bedeutet: jede Entität, von der jemand Autor ist, ist </a:t>
            </a:r>
            <a:r>
              <a:rPr b="1" lang="en-US" sz="3400" spc="-1" strike="noStrike">
                <a:solidFill>
                  <a:srgbClr val="000000"/>
                </a:solidFill>
                <a:latin typeface="Helvetica Neue"/>
              </a:rPr>
              <a:t>gleichzeitig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Kochbuch und Märchenb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her: als domain/range immer allgemeinste mögliche Klasse verwend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CBB2-7FC0-4590-963B-63A6E3B6790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1C97-A94B-4902-A0A0-0A0BDE2CD6F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zur Erinnerung: offene Listen in RDF: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6" name="Picture 3" descr=""/>
          <p:cNvPicPr/>
          <p:nvPr/>
        </p:nvPicPr>
        <p:blipFill>
          <a:blip r:embed="rId1"/>
          <a:stretch/>
        </p:blipFill>
        <p:spPr>
          <a:xfrm>
            <a:off x="1039680" y="3098880"/>
            <a:ext cx="10923840" cy="3543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8119-4109-4843-B7DA-F7D8D4F2F26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BB11-2CAF-47D0-A339-772166B6FA6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Klasse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als Oberklasse vo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eq, rdf:Bag, rdf:Al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Klasse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lemente sind keine Individuen i.e.S. sondern selbst Propertys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intendierte Semantik: jede Property, die aussagt, dass das Subjekt im Objekt enthalten ist, ist Instanz vo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gilt also insbesondere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_1  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_2  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tc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0632-F5A4-472D-83A6-B07CCE88A77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Property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member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Oberproperty aller i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nthaltenen Propertys, also die „universelle Enthaltenseinsrelation“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mit in RDFS-Semantik verankert: wann immer für eine Property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das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 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gilt,</a:t>
            </a:r>
            <a:r>
              <a:rPr b="0" lang="en-US" sz="47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folgt aus dem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p   b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sofort</a:t>
            </a:r>
            <a:r>
              <a:rPr b="0" lang="en-US" sz="47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s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rdfs:member   b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04A0-5FAF-4010-B2A8-1875D299DB4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FB9D-3EFE-4682-AFB5-154C2B7EDD4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blematisch in RDF(S): Modellierung von Aussagen über Aussagen (häufig zu erkennen am Wort„dass“), z.B.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„Der Detektiv vermutet, </a:t>
            </a:r>
            <a:r>
              <a:rPr b="1" i="1" lang="en-US" sz="3200" spc="-1" strike="noStrike">
                <a:solidFill>
                  <a:srgbClr val="000000"/>
                </a:solidFill>
                <a:latin typeface="Helvetica Neue"/>
              </a:rPr>
              <a:t>dass</a:t>
            </a: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 der Butler den Gärtner ermordet hat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rster Modellierungsversu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detektiv ex:vermutet "Der Butler hat den Gärtner ermordet."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ngünstig: auf Literal-Objekt kann schlecht in anderen Aussagen Bezug genommen werden (keine URI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zweiter Modellierungsversu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detektiv  ex:vermutet  ex:derButlerHatDenGärtnerErmordet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ngünstig: innere Struktur der dass-Aussage geht verlor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961E-48EA-4675-BE1A-E2614B4ED36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blematisch in RDF(S): Modellierung von Aussagen über Aussagen (häufig zu erkennen am Wort„dass“), z.B.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„Der Detektiv vermutet, </a:t>
            </a:r>
            <a:r>
              <a:rPr b="1" i="1" lang="en-US" sz="3200" spc="-1" strike="noStrike">
                <a:solidFill>
                  <a:srgbClr val="000000"/>
                </a:solidFill>
                <a:latin typeface="Helvetica Neue"/>
              </a:rPr>
              <a:t>dass</a:t>
            </a: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 der Butler den Gärtner ermordet hat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inzelne dass-Aussage leicht in RDF modellierba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butler   ex:hatErmordet   ex:gärtner  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wünschenswert: ganzes RDF-Tripel als Objekt eines anderen Tripels; ist aber kein gültiges RD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4CCF-512A-4DD7-B3CD-DE3677A1F65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4" name="Oval 2"/>
          <p:cNvSpPr/>
          <p:nvPr/>
        </p:nvSpPr>
        <p:spPr>
          <a:xfrm>
            <a:off x="165240" y="7404120"/>
            <a:ext cx="11023560" cy="2184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6" name="Oval 4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Oval 5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Oval 6"/>
          <p:cNvSpPr/>
          <p:nvPr/>
        </p:nvSpPr>
        <p:spPr>
          <a:xfrm>
            <a:off x="3530520" y="7620120"/>
            <a:ext cx="3861000" cy="114300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Oval 7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Rectangle 8"/>
          <p:cNvSpPr/>
          <p:nvPr/>
        </p:nvSpPr>
        <p:spPr>
          <a:xfrm>
            <a:off x="4212360" y="4872960"/>
            <a:ext cx="2382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Rectangle 9"/>
          <p:cNvSpPr/>
          <p:nvPr/>
        </p:nvSpPr>
        <p:spPr>
          <a:xfrm>
            <a:off x="3912120" y="7933680"/>
            <a:ext cx="3085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Line 10"/>
          <p:cNvSpPr/>
          <p:nvPr/>
        </p:nvSpPr>
        <p:spPr>
          <a:xfrm flipH="1" flipV="1">
            <a:off x="2941200" y="8473680"/>
            <a:ext cx="491508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Line 11"/>
          <p:cNvSpPr/>
          <p:nvPr/>
        </p:nvSpPr>
        <p:spPr>
          <a:xfrm flipH="1" flipV="1">
            <a:off x="5418000" y="4333680"/>
            <a:ext cx="15840" cy="135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Oval 12"/>
          <p:cNvSpPr/>
          <p:nvPr/>
        </p:nvSpPr>
        <p:spPr>
          <a:xfrm>
            <a:off x="4140360" y="5689440"/>
            <a:ext cx="2641320" cy="10162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theori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Line 13"/>
          <p:cNvSpPr/>
          <p:nvPr/>
        </p:nvSpPr>
        <p:spPr>
          <a:xfrm flipH="1" flipV="1">
            <a:off x="5417640" y="4333680"/>
            <a:ext cx="33480" cy="30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Line 14"/>
          <p:cNvSpPr/>
          <p:nvPr/>
        </p:nvSpPr>
        <p:spPr>
          <a:xfrm flipH="1" flipV="1">
            <a:off x="6560640" y="6480000"/>
            <a:ext cx="1770120" cy="16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Line 15"/>
          <p:cNvSpPr/>
          <p:nvPr/>
        </p:nvSpPr>
        <p:spPr>
          <a:xfrm flipV="1">
            <a:off x="2674800" y="6479640"/>
            <a:ext cx="1727280" cy="169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Line 16"/>
          <p:cNvSpPr/>
          <p:nvPr/>
        </p:nvSpPr>
        <p:spPr>
          <a:xfrm flipV="1">
            <a:off x="5451480" y="6705360"/>
            <a:ext cx="0" cy="94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Rectangle 17"/>
          <p:cNvSpPr/>
          <p:nvPr/>
        </p:nvSpPr>
        <p:spPr>
          <a:xfrm>
            <a:off x="1494360" y="6790680"/>
            <a:ext cx="2103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ubjec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Rectangle 18"/>
          <p:cNvSpPr/>
          <p:nvPr/>
        </p:nvSpPr>
        <p:spPr>
          <a:xfrm>
            <a:off x="4181400" y="6917760"/>
            <a:ext cx="25459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edicat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Rectangle 19"/>
          <p:cNvSpPr/>
          <p:nvPr/>
        </p:nvSpPr>
        <p:spPr>
          <a:xfrm>
            <a:off x="7440840" y="6790680"/>
            <a:ext cx="1896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objec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CF8E-70E1-4136-8F6C-6497278B015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4" name="Oval 2"/>
          <p:cNvSpPr/>
          <p:nvPr/>
        </p:nvSpPr>
        <p:spPr>
          <a:xfrm>
            <a:off x="165240" y="7404120"/>
            <a:ext cx="11023560" cy="2184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6" name="Oval 4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Oval 5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Oval 6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4161240" y="4833720"/>
            <a:ext cx="2015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Rectangle 8"/>
          <p:cNvSpPr/>
          <p:nvPr/>
        </p:nvSpPr>
        <p:spPr>
          <a:xfrm>
            <a:off x="3859920" y="7894440"/>
            <a:ext cx="261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Line 9"/>
          <p:cNvSpPr/>
          <p:nvPr/>
        </p:nvSpPr>
        <p:spPr>
          <a:xfrm flipH="1" flipV="1">
            <a:off x="2941200" y="8473680"/>
            <a:ext cx="491508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Line 10"/>
          <p:cNvSpPr/>
          <p:nvPr/>
        </p:nvSpPr>
        <p:spPr>
          <a:xfrm flipH="1" flipV="1">
            <a:off x="5417640" y="4333680"/>
            <a:ext cx="33480" cy="30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3361-97C9-46FD-BD88-74392D8E3FD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6" name="Oval 3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Oval 4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Oval 5"/>
          <p:cNvSpPr/>
          <p:nvPr/>
        </p:nvSpPr>
        <p:spPr>
          <a:xfrm>
            <a:off x="3530520" y="7620120"/>
            <a:ext cx="3861000" cy="114300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Oval 6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4147920" y="4834080"/>
            <a:ext cx="1736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Line 8"/>
          <p:cNvSpPr/>
          <p:nvPr/>
        </p:nvSpPr>
        <p:spPr>
          <a:xfrm flipH="1" flipV="1">
            <a:off x="5418000" y="4333680"/>
            <a:ext cx="15840" cy="135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Oval 9"/>
          <p:cNvSpPr/>
          <p:nvPr/>
        </p:nvSpPr>
        <p:spPr>
          <a:xfrm>
            <a:off x="4140360" y="5689440"/>
            <a:ext cx="2641320" cy="10162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theori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Line 10"/>
          <p:cNvSpPr/>
          <p:nvPr/>
        </p:nvSpPr>
        <p:spPr>
          <a:xfrm flipH="1" flipV="1">
            <a:off x="6560640" y="6480000"/>
            <a:ext cx="1770120" cy="16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Line 11"/>
          <p:cNvSpPr/>
          <p:nvPr/>
        </p:nvSpPr>
        <p:spPr>
          <a:xfrm flipV="1">
            <a:off x="2674800" y="6479640"/>
            <a:ext cx="1727280" cy="169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Line 12"/>
          <p:cNvSpPr/>
          <p:nvPr/>
        </p:nvSpPr>
        <p:spPr>
          <a:xfrm flipV="1">
            <a:off x="5451480" y="6705360"/>
            <a:ext cx="0" cy="94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13"/>
          <p:cNvSpPr/>
          <p:nvPr/>
        </p:nvSpPr>
        <p:spPr>
          <a:xfrm>
            <a:off x="1437840" y="6751800"/>
            <a:ext cx="1532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u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Rectangle 14"/>
          <p:cNvSpPr/>
          <p:nvPr/>
        </p:nvSpPr>
        <p:spPr>
          <a:xfrm>
            <a:off x="4122720" y="6878880"/>
            <a:ext cx="185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edica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15"/>
          <p:cNvSpPr/>
          <p:nvPr/>
        </p:nvSpPr>
        <p:spPr>
          <a:xfrm>
            <a:off x="7387920" y="6751800"/>
            <a:ext cx="138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o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E20C-9EB4-437C-B4CF-B3AA36A5F4E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htung: reifiziertes Tripel muss nicht unbedingt gelt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wäre auch nicht immer sinnvoll, z.B. bei Aussagen wie: „Der Detektiv bezweifelt, dass der Butler den Gärtner ermordet hat.“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lls dies gewünscht ist, muss das originale (unreifizierte) Tripel dem RDF-Dokument nochmals hinzugefügt werd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er Klassenbezeichner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tatement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ient zur Kennzeichnung aller solcher Aussagen-Hilfsknot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lls auf eine Aussage nicht (extern) Bezug genommen wird, kann der entsprechende Hilfsknoten ein bnode sei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06E0-988B-4715-B639-8BDCCE338C2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Übungsaufgabe: noch eine Kriminalgeschichte..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65" name="Picture 3" descr=""/>
          <p:cNvPicPr/>
          <p:nvPr/>
        </p:nvPicPr>
        <p:blipFill>
          <a:blip r:embed="rId1"/>
          <a:stretch/>
        </p:blipFill>
        <p:spPr>
          <a:xfrm>
            <a:off x="584280" y="3224160"/>
            <a:ext cx="11866320" cy="5462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87DD-A247-4030-84A5-5CE9D22E980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5311-C89B-4BEF-81CD-90B31D732F8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D282-8143-4B88-9C86-AF51D0B8556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ie bei Programmiersprachen manchmal Hinzufügen von Kommentaren (ohne Auswirkung auf Semantik) wünschensw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weck: Erhöhung der Verständlichkeit für menschlichen Nutze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s empfiehlt sich (z.B. aus Tool-Kompatibilitätsgründen) auch dieses Wissen als Graph zu repräsentier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o: Satz von Propertys, die diesem Zweck dienen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D11E-601A-4403-8223-810A5ACB69E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abel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, die einer (beliebigen) Ressource einen alternativen Namen zuweist (Liter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oftmals sind URIs schwer lesbar; zumindest „unhandlich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urch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abel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zugewiesener Name wird z.B. häufig von Tools bei der graphischen Darstellung verwende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eispiel (incl. Sprachinformation):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inidae"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enaffen&lt;/rdfs:label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B294-AE9F-4452-B43B-FD8E71A026E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mment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, die einer (beliebigen) Ressource einen umfangreichen Kommentar zuweist (Liter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einhaltet z.B. natürlichsprachliche Definition einer neu eingeführten Klasse - erleichtert spätere intentionsgemäße Wiederverwendu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eeAlso, rdfs:definedBy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ies, die Ressourcen (URIs!) angeben, die weitere Informationen bzw. eine Definition der Subjekt-Ressource bereitstellen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472F-4FDF-432C-9A23-BE29BED3BA5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wendungsbeispi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81" name="Picture 3" descr=""/>
          <p:cNvPicPr/>
          <p:nvPr/>
        </p:nvPicPr>
        <p:blipFill>
          <a:blip r:embed="rId1"/>
          <a:stretch/>
        </p:blipFill>
        <p:spPr>
          <a:xfrm>
            <a:off x="2171880" y="2971800"/>
            <a:ext cx="9727920" cy="5738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C832-95DB-478C-A9C4-AC1B82EDA92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9E2A-06AB-4EDD-B65A-1F33250B720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Ontolog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it den durch RDFS bereitgestellten Sprachmitteln können bestimmte Gegenstandsbereiche bereits in wichtigen Aspekten semantisch erfasst werd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f der Basis der speziellen Semantik von RDFS kann schon ein gewisses Maß impliziten Wissens geschlussfolgert werd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ithin stellt RDFS eine (wenn auch noch vergleichsweise wenig ausdrucksstarke) Ontologiesprache d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16B1-B274-4A4D-9805-AFF71415BC7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Ontologien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203040" y="1892160"/>
            <a:ext cx="8026560" cy="30229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3" descr=""/>
          <p:cNvPicPr/>
          <p:nvPr/>
        </p:nvPicPr>
        <p:blipFill>
          <a:blip r:embed="rId2"/>
          <a:stretch/>
        </p:blipFill>
        <p:spPr>
          <a:xfrm>
            <a:off x="3529080" y="3195720"/>
            <a:ext cx="9450360" cy="6507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2A2B-FB0C-441A-853B-A79A190801B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647640" y="4114800"/>
            <a:ext cx="11633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XML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5" name="Group 3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596" name="AutoShape 4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AutoShape 5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8" name="AutoShape 6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9" name="Rectangle 7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00" name="Group 8"/>
          <p:cNvGrpSpPr/>
          <p:nvPr/>
        </p:nvGrpSpPr>
        <p:grpSpPr>
          <a:xfrm>
            <a:off x="938160" y="5029200"/>
            <a:ext cx="11017800" cy="3978360"/>
            <a:chOff x="938160" y="5029200"/>
            <a:chExt cx="11017800" cy="3978360"/>
          </a:xfrm>
        </p:grpSpPr>
        <p:grpSp>
          <p:nvGrpSpPr>
            <p:cNvPr id="601" name="Group 9"/>
            <p:cNvGrpSpPr/>
            <p:nvPr/>
          </p:nvGrpSpPr>
          <p:grpSpPr>
            <a:xfrm>
              <a:off x="4437360" y="5029200"/>
              <a:ext cx="3079800" cy="754200"/>
              <a:chOff x="4437360" y="5029200"/>
              <a:chExt cx="3079800" cy="754200"/>
            </a:xfrm>
          </p:grpSpPr>
          <p:sp>
            <p:nvSpPr>
              <p:cNvPr id="602" name="Oval 10"/>
              <p:cNvSpPr/>
              <p:nvPr/>
            </p:nvSpPr>
            <p:spPr>
              <a:xfrm>
                <a:off x="4437360" y="5029200"/>
                <a:ext cx="307980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03" name="Rectangle 11"/>
              <p:cNvSpPr/>
              <p:nvPr/>
            </p:nvSpPr>
            <p:spPr>
              <a:xfrm>
                <a:off x="4741560" y="5164560"/>
                <a:ext cx="24710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Description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04" name="Group 12"/>
            <p:cNvGrpSpPr/>
            <p:nvPr/>
          </p:nvGrpSpPr>
          <p:grpSpPr>
            <a:xfrm>
              <a:off x="5289120" y="6108840"/>
              <a:ext cx="1370880" cy="753840"/>
              <a:chOff x="5289120" y="6108840"/>
              <a:chExt cx="1370880" cy="753840"/>
            </a:xfrm>
          </p:grpSpPr>
          <p:sp>
            <p:nvSpPr>
              <p:cNvPr id="605" name="Oval 13"/>
              <p:cNvSpPr/>
              <p:nvPr/>
            </p:nvSpPr>
            <p:spPr>
              <a:xfrm>
                <a:off x="5311800" y="6108840"/>
                <a:ext cx="1323720" cy="75384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06" name="Rectangle 14"/>
              <p:cNvSpPr/>
              <p:nvPr/>
            </p:nvSpPr>
            <p:spPr>
              <a:xfrm>
                <a:off x="5289120" y="6248160"/>
                <a:ext cx="13708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typ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07" name="Group 15"/>
            <p:cNvGrpSpPr/>
            <p:nvPr/>
          </p:nvGrpSpPr>
          <p:grpSpPr>
            <a:xfrm>
              <a:off x="938160" y="6324480"/>
              <a:ext cx="1841400" cy="546120"/>
              <a:chOff x="938160" y="6324480"/>
              <a:chExt cx="1841400" cy="546120"/>
            </a:xfrm>
          </p:grpSpPr>
          <p:sp>
            <p:nvSpPr>
              <p:cNvPr id="608" name="Oval 16"/>
              <p:cNvSpPr/>
              <p:nvPr/>
            </p:nvSpPr>
            <p:spPr>
              <a:xfrm>
                <a:off x="938160" y="6324480"/>
                <a:ext cx="1841400" cy="54612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09" name="Rectangle 17"/>
              <p:cNvSpPr/>
              <p:nvPr/>
            </p:nvSpPr>
            <p:spPr>
              <a:xfrm>
                <a:off x="1335240" y="6354720"/>
                <a:ext cx="10476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ID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10" name="Line 18"/>
            <p:cNvSpPr/>
            <p:nvPr/>
          </p:nvSpPr>
          <p:spPr>
            <a:xfrm flipH="1">
              <a:off x="2671560" y="5562720"/>
              <a:ext cx="1841760" cy="866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1" name="Rectangle 19"/>
            <p:cNvSpPr/>
            <p:nvPr/>
          </p:nvSpPr>
          <p:spPr>
            <a:xfrm>
              <a:off x="1363320" y="7396200"/>
              <a:ext cx="976680" cy="396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2" name="Line 20"/>
            <p:cNvSpPr/>
            <p:nvPr/>
          </p:nvSpPr>
          <p:spPr>
            <a:xfrm>
              <a:off x="5950080" y="5778360"/>
              <a:ext cx="180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3" name="Line 21"/>
            <p:cNvSpPr/>
            <p:nvPr/>
          </p:nvSpPr>
          <p:spPr>
            <a:xfrm flipH="1">
              <a:off x="5164560" y="6756480"/>
              <a:ext cx="433440" cy="64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4" name="Line 22"/>
            <p:cNvSpPr/>
            <p:nvPr/>
          </p:nvSpPr>
          <p:spPr>
            <a:xfrm>
              <a:off x="1805040" y="6870600"/>
              <a:ext cx="1440" cy="430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5" name="Rectangle 23"/>
            <p:cNvSpPr/>
            <p:nvPr/>
          </p:nvSpPr>
          <p:spPr>
            <a:xfrm>
              <a:off x="1271160" y="8556120"/>
              <a:ext cx="7320960" cy="451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American Typewriter"/>
                  <a:ea typeface="American Typewriter"/>
                  <a:hlinkClick r:id="rId1"/>
                </a:rPr>
                <a:t>http://www.w3.org/2000/01/rdf-schema#</a:t>
              </a: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Class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6" name="Line 24"/>
            <p:cNvSpPr/>
            <p:nvPr/>
          </p:nvSpPr>
          <p:spPr>
            <a:xfrm>
              <a:off x="4974120" y="7950240"/>
              <a:ext cx="2880" cy="544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7" name="Line 25"/>
            <p:cNvSpPr/>
            <p:nvPr/>
          </p:nvSpPr>
          <p:spPr>
            <a:xfrm>
              <a:off x="7115760" y="5676840"/>
              <a:ext cx="173376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618" name="Group 26"/>
            <p:cNvGrpSpPr/>
            <p:nvPr/>
          </p:nvGrpSpPr>
          <p:grpSpPr>
            <a:xfrm>
              <a:off x="9530640" y="7188120"/>
              <a:ext cx="2425320" cy="754200"/>
              <a:chOff x="9530640" y="7188120"/>
              <a:chExt cx="2425320" cy="754200"/>
            </a:xfrm>
          </p:grpSpPr>
          <p:sp>
            <p:nvSpPr>
              <p:cNvPr id="619" name="Oval 27"/>
              <p:cNvSpPr/>
              <p:nvPr/>
            </p:nvSpPr>
            <p:spPr>
              <a:xfrm>
                <a:off x="9530640" y="7188120"/>
                <a:ext cx="242532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0" name="Rectangle 28"/>
              <p:cNvSpPr/>
              <p:nvPr/>
            </p:nvSpPr>
            <p:spPr>
              <a:xfrm>
                <a:off x="9711720" y="7331400"/>
                <a:ext cx="2061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resourc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21" name="Group 29"/>
            <p:cNvGrpSpPr/>
            <p:nvPr/>
          </p:nvGrpSpPr>
          <p:grpSpPr>
            <a:xfrm>
              <a:off x="3759480" y="7188120"/>
              <a:ext cx="2425320" cy="754200"/>
              <a:chOff x="3759480" y="7188120"/>
              <a:chExt cx="2425320" cy="754200"/>
            </a:xfrm>
          </p:grpSpPr>
          <p:sp>
            <p:nvSpPr>
              <p:cNvPr id="622" name="Oval 30"/>
              <p:cNvSpPr/>
              <p:nvPr/>
            </p:nvSpPr>
            <p:spPr>
              <a:xfrm>
                <a:off x="3759480" y="7188120"/>
                <a:ext cx="242532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3" name="Rectangle 31"/>
              <p:cNvSpPr/>
              <p:nvPr/>
            </p:nvSpPr>
            <p:spPr>
              <a:xfrm>
                <a:off x="3940560" y="7331400"/>
                <a:ext cx="2061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resourc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24" name="Group 32"/>
            <p:cNvGrpSpPr/>
            <p:nvPr/>
          </p:nvGrpSpPr>
          <p:grpSpPr>
            <a:xfrm>
              <a:off x="7904880" y="5994360"/>
              <a:ext cx="3110040" cy="754200"/>
              <a:chOff x="7904880" y="5994360"/>
              <a:chExt cx="3110040" cy="754200"/>
            </a:xfrm>
          </p:grpSpPr>
          <p:sp>
            <p:nvSpPr>
              <p:cNvPr id="625" name="Oval 33"/>
              <p:cNvSpPr/>
              <p:nvPr/>
            </p:nvSpPr>
            <p:spPr>
              <a:xfrm>
                <a:off x="7904880" y="5994360"/>
                <a:ext cx="311004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6" name="Rectangle 34"/>
              <p:cNvSpPr/>
              <p:nvPr/>
            </p:nvSpPr>
            <p:spPr>
              <a:xfrm>
                <a:off x="8244720" y="6139080"/>
                <a:ext cx="24285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subClassOf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27" name="Line 35"/>
            <p:cNvSpPr/>
            <p:nvPr/>
          </p:nvSpPr>
          <p:spPr>
            <a:xfrm>
              <a:off x="9743400" y="6756480"/>
              <a:ext cx="86688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28" name="Rectangle 36"/>
            <p:cNvSpPr/>
            <p:nvPr/>
          </p:nvSpPr>
          <p:spPr>
            <a:xfrm>
              <a:off x="9516960" y="8583840"/>
              <a:ext cx="2387880" cy="396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29" name="Line 37"/>
            <p:cNvSpPr/>
            <p:nvPr/>
          </p:nvSpPr>
          <p:spPr>
            <a:xfrm>
              <a:off x="10827720" y="7950240"/>
              <a:ext cx="1800" cy="544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D07D-8937-4399-89E6-5D6B0673E32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2" name="Rectangle 2"/>
          <p:cNvSpPr/>
          <p:nvPr/>
        </p:nvSpPr>
        <p:spPr>
          <a:xfrm>
            <a:off x="914400" y="4051440"/>
            <a:ext cx="11417400" cy="67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RDF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eres Datenmode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:De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merican Typewriter"/>
                <a:ea typeface="American Typewriter"/>
              </a:rPr>
              <a:t>rdf: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200" spc="-1" strike="noStrike">
                <a:solidFill>
                  <a:srgbClr val="ff0000"/>
                </a:solidFill>
                <a:latin typeface="American Typewriter"/>
                <a:ea typeface="American Typewriter"/>
              </a:rPr>
              <a:t>rdf:re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aben eine festgelegte Bedeutu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subject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predicate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#Truck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#Truck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#MotorVehic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33" name="Group 3"/>
          <p:cNvGrpSpPr/>
          <p:nvPr/>
        </p:nvGrpSpPr>
        <p:grpSpPr>
          <a:xfrm>
            <a:off x="7130880" y="8688240"/>
            <a:ext cx="1727280" cy="736560"/>
            <a:chOff x="7130880" y="8688240"/>
            <a:chExt cx="1727280" cy="736560"/>
          </a:xfrm>
        </p:grpSpPr>
        <p:sp>
          <p:nvSpPr>
            <p:cNvPr id="634" name="Oval 4"/>
            <p:cNvSpPr/>
            <p:nvPr/>
          </p:nvSpPr>
          <p:spPr>
            <a:xfrm>
              <a:off x="7130880" y="8688240"/>
              <a:ext cx="1727280" cy="7365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35" name="Rectangle 5"/>
            <p:cNvSpPr/>
            <p:nvPr/>
          </p:nvSpPr>
          <p:spPr>
            <a:xfrm>
              <a:off x="7270560" y="8820000"/>
              <a:ext cx="14461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#Truck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36" name="Group 6"/>
          <p:cNvGrpSpPr/>
          <p:nvPr/>
        </p:nvGrpSpPr>
        <p:grpSpPr>
          <a:xfrm>
            <a:off x="10051920" y="8690040"/>
            <a:ext cx="2438280" cy="749160"/>
            <a:chOff x="10051920" y="8690040"/>
            <a:chExt cx="2438280" cy="749160"/>
          </a:xfrm>
        </p:grpSpPr>
        <p:sp>
          <p:nvSpPr>
            <p:cNvPr id="637" name="Oval 7"/>
            <p:cNvSpPr/>
            <p:nvPr/>
          </p:nvSpPr>
          <p:spPr>
            <a:xfrm>
              <a:off x="10213920" y="8690040"/>
              <a:ext cx="2112840" cy="7491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38" name="Rectangle 8"/>
            <p:cNvSpPr/>
            <p:nvPr/>
          </p:nvSpPr>
          <p:spPr>
            <a:xfrm>
              <a:off x="10051920" y="8831160"/>
              <a:ext cx="24382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rdfs:Class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39" name="Line 9"/>
          <p:cNvSpPr/>
          <p:nvPr/>
        </p:nvSpPr>
        <p:spPr>
          <a:xfrm>
            <a:off x="8842320" y="9045720"/>
            <a:ext cx="1422360" cy="1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40" name="Group 10"/>
          <p:cNvGrpSpPr/>
          <p:nvPr/>
        </p:nvGrpSpPr>
        <p:grpSpPr>
          <a:xfrm>
            <a:off x="928800" y="8636040"/>
            <a:ext cx="3720600" cy="850680"/>
            <a:chOff x="928800" y="8636040"/>
            <a:chExt cx="3720600" cy="850680"/>
          </a:xfrm>
        </p:grpSpPr>
        <p:sp>
          <p:nvSpPr>
            <p:cNvPr id="641" name="Oval 11"/>
            <p:cNvSpPr/>
            <p:nvPr/>
          </p:nvSpPr>
          <p:spPr>
            <a:xfrm>
              <a:off x="928800" y="8636040"/>
              <a:ext cx="3720600" cy="8506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12"/>
            <p:cNvSpPr/>
            <p:nvPr/>
          </p:nvSpPr>
          <p:spPr>
            <a:xfrm>
              <a:off x="1422360" y="8798040"/>
              <a:ext cx="2733120" cy="52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#MotorVehicle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43" name="Line 13"/>
          <p:cNvSpPr/>
          <p:nvPr/>
        </p:nvSpPr>
        <p:spPr>
          <a:xfrm flipH="1">
            <a:off x="4649400" y="9058320"/>
            <a:ext cx="244476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Rectangle 14"/>
          <p:cNvSpPr/>
          <p:nvPr/>
        </p:nvSpPr>
        <p:spPr>
          <a:xfrm>
            <a:off x="8837280" y="8470800"/>
            <a:ext cx="142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Rectangle 15"/>
          <p:cNvSpPr/>
          <p:nvPr/>
        </p:nvSpPr>
        <p:spPr>
          <a:xfrm>
            <a:off x="4560840" y="8470800"/>
            <a:ext cx="2730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46" name="Group 16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647" name="AutoShape 17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AutoShape 18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9" name="AutoShape 19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0" name="Rectangle 20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0E8E-972A-4868-9C12-CC79685165B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bietet universelle Möglichkeit zur Kodierung von faktischen Daten im Web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= Aussagen über einzelne Ressourcen (Individuen) und deren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ünschenswert: Aussagen über generische Mengen von Individuen (Klassen), z.B. Verlage, Organisationen, Personen etc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20" name="Picture 3" descr=""/>
          <p:cNvPicPr/>
          <p:nvPr/>
        </p:nvPicPr>
        <p:blipFill>
          <a:blip r:embed="rId1"/>
          <a:stretch/>
        </p:blipFill>
        <p:spPr>
          <a:xfrm>
            <a:off x="2146320" y="3517920"/>
            <a:ext cx="8705880" cy="749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3CAE-EEAD-4C25-8D5E-0989CDC053F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3" name="Rectangle 2"/>
          <p:cNvSpPr/>
          <p:nvPr/>
        </p:nvSpPr>
        <p:spPr>
          <a:xfrm>
            <a:off x="952560" y="4257720"/>
            <a:ext cx="113792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RDF Schema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eder anderes Datenmodel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d </a:t>
            </a:r>
            <a:r>
              <a:rPr b="0" lang="en-US" sz="24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rden speziell interpretier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Line 3"/>
          <p:cNvSpPr/>
          <p:nvPr/>
        </p:nvSpPr>
        <p:spPr>
          <a:xfrm flipV="1">
            <a:off x="6525360" y="7073640"/>
            <a:ext cx="3240" cy="162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6661440" y="7620120"/>
            <a:ext cx="927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-a“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Line 5"/>
          <p:cNvSpPr/>
          <p:nvPr/>
        </p:nvSpPr>
        <p:spPr>
          <a:xfrm>
            <a:off x="6310440" y="7074000"/>
            <a:ext cx="431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Line 6"/>
          <p:cNvSpPr/>
          <p:nvPr/>
        </p:nvSpPr>
        <p:spPr>
          <a:xfrm flipV="1">
            <a:off x="6309720" y="6756120"/>
            <a:ext cx="215640" cy="3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8" name="Line 7"/>
          <p:cNvSpPr/>
          <p:nvPr/>
        </p:nvSpPr>
        <p:spPr>
          <a:xfrm flipH="1" flipV="1">
            <a:off x="6525720" y="6756120"/>
            <a:ext cx="217800" cy="3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5218920" y="6263640"/>
            <a:ext cx="2557080" cy="42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merican Typewriter"/>
                <a:ea typeface="American Typewriter"/>
              </a:rPr>
              <a:t>#MotorVehic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Rectangle 9"/>
          <p:cNvSpPr/>
          <p:nvPr/>
        </p:nvSpPr>
        <p:spPr>
          <a:xfrm>
            <a:off x="5870160" y="8778240"/>
            <a:ext cx="1269360" cy="42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merican Typewriter"/>
                <a:ea typeface="American Typewriter"/>
              </a:rPr>
              <a:t>#Truc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61" name="Group 10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662" name="AutoShape 11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3" name="AutoShape 12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4" name="AutoShape 13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Rectangle 14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76B8-A512-42F8-9A7F-066E786DA40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iterhin wünschenswert: Spezifikation der logischen Zusammenhänge zwischen Individuen, Klassen und Beziehungen, um möglichst viel Semantik des Gegenstandsbereiches einzufangen, z.B.: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"Verlage sind Organisationen."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"Nur Personen schreiben Bücher.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 Datenbanksprache: Schemawi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138C-9DB9-4822-8C1A-767842568CB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9563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Schema (RDFS)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eil der W3C Recommendation zu RDF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möglicht Spezifikation von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schematische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(auch: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terminologische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Wi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pezielles RDF-Vokabular (also: jedes RDFS-Dokument ist ein RDF-Dokumen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amensraum (i.d.R. abgekürzt mit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:</a:t>
            </a: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American Typewriter"/>
                <a:ea typeface="American Typewriter"/>
                <a:hlinkClick r:id="rId1"/>
              </a:rPr>
              <a:t>http://www.w3.org/2000/01/rdf-schema#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8F10-2618-4B16-A296-4E4759A35DB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91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Schema (RDFS)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jedoch: Vokabular nicht themengebunden (wie z.B. bei FOAF), sondern generisch 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rlaubt die Spezifikation (von Teilen) der Semantik beliebiger RDF-Vokabulare (ist also eine Art „Metavokabular“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Vorteil: jede Software mit RDFS-Unterstützung interpretiert jedes vermittels RDFS definierte Vokabular korrek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Funktionalität macht RDFS zu einer Ontologiesprache (für leichtgewichtige - engl.: lightweight - Ontologien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„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A little semantics goes a long way.“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318D-B34E-4044-A391-29EB2FF4BD5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5:49:41Z</dcterms:created>
  <dc:creator/>
  <dc:description/>
  <cp:keywords/>
  <dc:language>en-US</dc:language>
  <cp:lastModifiedBy>Sebastian Rudolph</cp:lastModifiedBy>
  <dcterms:modified xsi:type="dcterms:W3CDTF">2008-11-05T16:00:19Z</dcterms:modified>
  <cp:revision>1</cp:revision>
  <dc:subject/>
  <dc:title>Folie 1</dc:title>
</cp:coreProperties>
</file>